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A6B-3CD9-47F7-8BCB-E92FD9F7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238-EA36-48A1-8F98-DC970A53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216-8D0B-4BC4-A927-7ED852CE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641-9C70-4B96-A959-BAE6B98D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394-31B6-43BC-9BDC-A4B58DDE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186-9AFE-4C0C-B2CF-F91C631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ADE-92EE-4F0A-BAAF-255C469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742-4E5A-4E84-A2FB-73EA3E8E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71D-E349-4E04-8FE5-F249DBAA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760-1AC6-4ADE-B6A3-1370F05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A32-1A3C-4CF7-B2FB-87827B3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7B8-4FA8-41C7-B0F4-8E22361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5D6-DB5F-4175-ADD5-8DDE463FD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2 Pane môj, kým som nepoz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 zvíťaz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cieľu viery dospej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az tvár tvoju uvid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sa z toho ra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myslím stále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v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iať si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kým som nepozn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tvojej lásk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som túžbu pesto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márnej svetsk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ím ťa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ň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avú múd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bez bázne kona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ojim blížnym uško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erným bol som dieťať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tebou som sa nera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pusť mi, Otče, blúd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daj zvodu riecť vždy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álo lásky som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om len vlast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tvoje, čo som b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ť vďačný byť som neve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viac ťa mil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všetko ti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a som málo vyko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 sa, Pane, chváliť č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žkostiam som sa vyhýb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ám sa nezm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tvojom diele 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u na to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6:59:11Z</dcterms:modified>
  <cp:revision>20</cp:revision>
  <dc:subject/>
  <dc:title>Je veľký náš Pán, on slávy je Kráľ Nech do všetkých strán  spev vrúcnych znie chvál.</dc:title>
</cp:coreProperties>
</file>